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333399"/>
              </a:solidFill>
              <a:latin typeface="Arial"/>
            </a:endParaRPr>
          </a:p>
        </p:txBody>
      </p:sp>
      <p:sp>
        <p:nvSpPr>
          <p:cNvPr id="126"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773160" y="-360"/>
            <a:ext cx="28875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874800" y="738000"/>
            <a:ext cx="4914720" cy="3686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9338760"/>
            <a:ext cx="288756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F048-86C8-479C-8ED3-307E6CC005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2CF1-CBD0-4A94-B6BA-7CCB7AB4D05D}"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25" name="PlaceHolder 1"/>
          <p:cNvSpPr>
            <a:spLocks noGrp="1"/>
          </p:cNvSpPr>
          <p:nvPr>
            <p:ph type="sldImg"/>
          </p:nvPr>
        </p:nvSpPr>
        <p:spPr>
          <a:xfrm>
            <a:off x="874800" y="738360"/>
            <a:ext cx="4914720" cy="3686040"/>
          </a:xfrm>
          <a:prstGeom prst="rect">
            <a:avLst/>
          </a:prstGeom>
          <a:ln w="0">
            <a:noFill/>
          </a:ln>
        </p:spPr>
      </p:sp>
      <p:sp>
        <p:nvSpPr>
          <p:cNvPr id="226"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itment by </a:t>
            </a:r>
            <a:r>
              <a:rPr b="0" lang="en-GB" sz="1200" spc="-1" strike="noStrike" u="sng">
                <a:solidFill>
                  <a:srgbClr val="000000"/>
                </a:solidFill>
                <a:uFillTx/>
                <a:latin typeface="Arial"/>
              </a:rPr>
              <a:t>successive</a:t>
            </a:r>
            <a:r>
              <a:rPr b="0" lang="en-GB" sz="1200" spc="-1" strike="noStrike">
                <a:solidFill>
                  <a:srgbClr val="000000"/>
                </a:solidFill>
                <a:latin typeface="Arial"/>
              </a:rPr>
              <a:t> governments to non discrimination / equality of opportunity. No intention that it include all categories of migrants but begs the question ‘Why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nts are entitled some rights as soon as arrive: ECHR ‘secure everyone in jurisdiction’ rights in the Convention, enforceable via HRA.  Not dependent nationality, immigration status. But in other respects - Complex pattern of access and restrictions – to work, services, benefits &amp; voting, rarely discussed in policy debates except in relation to single categories eg denial access to refused asylum see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EC15-73D4-4CD0-A0BC-64167510F9D6}"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28" name="PlaceHolder 1"/>
          <p:cNvSpPr>
            <a:spLocks noGrp="1"/>
          </p:cNvSpPr>
          <p:nvPr>
            <p:ph type="sldImg"/>
          </p:nvPr>
        </p:nvSpPr>
        <p:spPr>
          <a:xfrm>
            <a:off x="874800" y="738360"/>
            <a:ext cx="4914720" cy="3686040"/>
          </a:xfrm>
          <a:prstGeom prst="rect">
            <a:avLst/>
          </a:prstGeom>
          <a:ln w="0">
            <a:noFill/>
          </a:ln>
        </p:spPr>
      </p:sp>
      <p:sp>
        <p:nvSpPr>
          <p:cNvPr id="229"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Each of the four substantive rights we discuss – the rights to healthcare, education, social housing and to family life – have found expression in human rights treaties to which the UK is a party, including the International Covenant on Civil and Political Rights (1966) (ICCPR)[1], the International Covenant on Economic, Social and Cultural Rights (1966) (ICESCR)[2] and the Convention on the Rights of the Child (1991) (CRC).[3]  </a:t>
            </a:r>
            <a:br>
              <a:rPr sz="900"/>
            </a:br>
            <a:r>
              <a:rPr b="0" lang="en-US" sz="900" spc="-1" strike="noStrike">
                <a:solidFill>
                  <a:srgbClr val="000000"/>
                </a:solidFill>
                <a:latin typeface="Arial"/>
              </a:rPr>
              <a:t>[1] </a:t>
            </a:r>
            <a:r>
              <a:rPr b="0" lang="en-GB" sz="900" spc="-1" strike="noStrike">
                <a:solidFill>
                  <a:srgbClr val="000000"/>
                </a:solidFill>
                <a:latin typeface="Arial"/>
              </a:rPr>
              <a:t>For instance Article 17: ‘</a:t>
            </a:r>
            <a:r>
              <a:rPr b="0" lang="en-US" sz="900" spc="-1" strike="noStrike">
                <a:solidFill>
                  <a:srgbClr val="000000"/>
                </a:solidFill>
                <a:latin typeface="Arial"/>
              </a:rPr>
              <a:t>No one shall be subjected to arbitrary or unlawful interference with his privacy, family, home or correspondence….’and Article 23: . ‘The family is the natural and fundamental group unit of society and is entitled to protection by society and the Sta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a:t>
            </a:r>
            <a:r>
              <a:rPr b="0" lang="en-GB" sz="900" spc="-1" strike="noStrike">
                <a:solidFill>
                  <a:srgbClr val="000000"/>
                </a:solidFill>
                <a:latin typeface="Arial"/>
              </a:rPr>
              <a:t>For instance Article 11 ‘..</a:t>
            </a:r>
            <a:r>
              <a:rPr b="0" lang="en-US" sz="900" spc="-1" strike="noStrike">
                <a:solidFill>
                  <a:srgbClr val="000000"/>
                </a:solidFill>
                <a:latin typeface="Arial"/>
              </a:rPr>
              <a:t>the right of everyone to an adequate standard of living for himself and his family, including adequate food, clothing and housing, and to the continuous improvement of living conditions…’; Article 12 ‘the right of everyone to the enjoyment of the highest attainable standard of physical and mental health’ and Article 13 ‘..the right of everyone to educ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a:t>
            </a:r>
            <a:r>
              <a:rPr b="0" lang="en-GB" sz="900" spc="-1" strike="noStrike">
                <a:solidFill>
                  <a:srgbClr val="000000"/>
                </a:solidFill>
                <a:latin typeface="Arial"/>
              </a:rPr>
              <a:t>For instance Article 10 ‘…</a:t>
            </a:r>
            <a:r>
              <a:rPr b="0" lang="en-US" sz="900" spc="-1" strike="noStrike">
                <a:solidFill>
                  <a:srgbClr val="000000"/>
                </a:solidFill>
                <a:latin typeface="Arial"/>
              </a:rPr>
              <a:t>applications by a child or his or her parents to enter or leave a State Party for the purpose of family reunification shall be dealt with by States Parties in a positive, humane and expeditious manner’ and Article 24 ‘the right of the child to the enjoyment of the highest attainable standard of health and to facilities for the treatment of illness and rehabilitation of heal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CCPR: </a:t>
            </a:r>
            <a:r>
              <a:rPr b="0" lang="en-US" sz="900" spc="-1" strike="noStrike">
                <a:solidFill>
                  <a:srgbClr val="000000"/>
                </a:solidFill>
                <a:latin typeface="Arial"/>
              </a:rPr>
              <a:t>Although nationality is not expressly listed, the UN Human Rights Committee has repeatedly affirmed that distinctions based upon nationality or citizenship fall within the final ground enumerated in Article 26, ‘other status’.[1]  On this basis, it seems reasonable to assume that it also applies to differential treatment among categories of non citizens.[2]  [1]</a:t>
            </a:r>
            <a:r>
              <a:rPr b="0" lang="it-IT" sz="900" spc="-1" strike="noStrike">
                <a:solidFill>
                  <a:srgbClr val="000000"/>
                </a:solidFill>
                <a:latin typeface="Arial"/>
              </a:rPr>
              <a:t> UN HRC, ‘General Comment 18: Non-discrimination’ (1989), UN Doc. </a:t>
            </a:r>
            <a:r>
              <a:rPr b="0" lang="en-US" sz="900" spc="-1" strike="noStrike">
                <a:solidFill>
                  <a:srgbClr val="000000"/>
                </a:solidFill>
                <a:latin typeface="Arial"/>
              </a:rPr>
              <a:t>HRI/GEN/1/Rev.7, May 12, 2004.  [2] </a:t>
            </a:r>
            <a:r>
              <a:rPr b="0" lang="en-GB" sz="900" spc="-1" strike="noStrike">
                <a:solidFill>
                  <a:srgbClr val="000000"/>
                </a:solidFill>
                <a:latin typeface="Arial"/>
              </a:rPr>
              <a:t>For instance see </a:t>
            </a:r>
            <a:r>
              <a:rPr b="0" i="1" lang="en-GB" sz="900" spc="-1" strike="noStrike">
                <a:solidFill>
                  <a:srgbClr val="000000"/>
                </a:solidFill>
                <a:latin typeface="Arial"/>
              </a:rPr>
              <a:t>Karakura v Austria </a:t>
            </a:r>
            <a:r>
              <a:rPr b="0" lang="en-GB" sz="900" spc="-1" strike="noStrike">
                <a:solidFill>
                  <a:srgbClr val="000000"/>
                </a:solidFill>
                <a:latin typeface="Arial"/>
              </a:rPr>
              <a:t>(Communication No 965/2000) concerning a restriction on entitlement to stand for election to work councils to Austrian and EEA nationa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CtHR has long held that differences in treatment on grounds of nationality may breach Article 14. In </a:t>
            </a:r>
            <a:r>
              <a:rPr b="0" i="1" lang="en-US" sz="900" spc="-1" strike="noStrike">
                <a:solidFill>
                  <a:srgbClr val="000000"/>
                </a:solidFill>
                <a:latin typeface="Arial"/>
              </a:rPr>
              <a:t>Gaygusuz v Austria</a:t>
            </a:r>
            <a:r>
              <a:rPr b="0" lang="en-US" sz="900" spc="-1" strike="noStrike">
                <a:solidFill>
                  <a:srgbClr val="000000"/>
                </a:solidFill>
                <a:latin typeface="Arial"/>
              </a:rPr>
              <a:t>,[1] for instance, the Court found that a Turkish national denied unemployment benefits in Austria on grounds that he did not have Austrian nationality, despite having paid contributions and qualifying in other respects, amounted to discrimination in the enjoyment of his right to property, guaranteed by the Convention. [1] </a:t>
            </a:r>
            <a:r>
              <a:rPr b="0" lang="en-GB" sz="900" spc="-1" strike="noStrike">
                <a:solidFill>
                  <a:srgbClr val="000000"/>
                </a:solidFill>
                <a:latin typeface="Arial"/>
              </a:rPr>
              <a:t>Appeal Number 17371/90 of 16 September 199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Culture of justification’ – Lord Steyn, ‘The New Legal Landscape’ 2000, European Human Rights Law Review 549, 55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 race law allows discrimination grounds nationality but ECJ take international law into account.</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DDEE-70A3-463B-BBAD-2CA5894FFF8E}"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31" name="PlaceHolder 1"/>
          <p:cNvSpPr>
            <a:spLocks noGrp="1"/>
          </p:cNvSpPr>
          <p:nvPr>
            <p:ph type="sldImg"/>
          </p:nvPr>
        </p:nvSpPr>
        <p:spPr>
          <a:xfrm>
            <a:off x="874800" y="738360"/>
            <a:ext cx="4914720" cy="3686040"/>
          </a:xfrm>
          <a:prstGeom prst="rect">
            <a:avLst/>
          </a:prstGeom>
          <a:ln w="0">
            <a:noFill/>
          </a:ln>
        </p:spPr>
      </p:sp>
      <p:sp>
        <p:nvSpPr>
          <p:cNvPr id="232"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Schedule 3 (?) and Schedule 2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54AA-78D7-4704-B0F4-36E96BBD739B}"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34" name="PlaceHolder 1"/>
          <p:cNvSpPr>
            <a:spLocks noGrp="1"/>
          </p:cNvSpPr>
          <p:nvPr>
            <p:ph type="sldImg"/>
          </p:nvPr>
        </p:nvSpPr>
        <p:spPr>
          <a:xfrm>
            <a:off x="874800" y="738360"/>
            <a:ext cx="4914720" cy="3686040"/>
          </a:xfrm>
          <a:prstGeom prst="rect">
            <a:avLst/>
          </a:prstGeom>
          <a:ln w="0">
            <a:noFill/>
          </a:ln>
        </p:spPr>
      </p:sp>
      <p:sp>
        <p:nvSpPr>
          <p:cNvPr id="235"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nsion brought to the fore by extent to which people now live in countries in which they are not citize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8108-03BE-460D-96E5-ED1DAD628176}"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37" name="PlaceHolder 1"/>
          <p:cNvSpPr>
            <a:spLocks noGrp="1"/>
          </p:cNvSpPr>
          <p:nvPr>
            <p:ph type="sldImg"/>
          </p:nvPr>
        </p:nvSpPr>
        <p:spPr>
          <a:xfrm>
            <a:off x="874800" y="738360"/>
            <a:ext cx="4914720" cy="3686040"/>
          </a:xfrm>
          <a:prstGeom prst="rect">
            <a:avLst/>
          </a:prstGeom>
          <a:ln w="0">
            <a:noFill/>
          </a:ln>
        </p:spPr>
      </p:sp>
      <p:sp>
        <p:nvSpPr>
          <p:cNvPr id="238"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raudon 2002 a source of Boswell’s argu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3440D-81FC-4C94-91CF-A4BD285EC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7D02A-58DD-421B-9126-23F868147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76118-B4ED-4282-9083-A4DC98CDA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39F44-D30D-4A21-AB95-418DEAC47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7E26D-26E3-42CD-A6DF-1233EF475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D4CC7-8635-4338-B4E4-679A87F6C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66EF9-0BE2-461F-B6D9-FB925AF5E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A07E6-8A5B-47F5-8DE0-D6CA452D8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6E92B-CBCF-4675-8717-E50A08608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EFFFA-C313-489B-90F3-5DEBF22A7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B7F39-DD3A-449B-802B-41DD9642E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8BD5A-D7AD-423F-B90F-6E3A84FC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FE3E9-DF62-4B0A-BB86-1191BD5CC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2582F-6C05-4808-9231-A1C1504C3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FAD95-93D4-4679-B845-F2AC48AE6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80D88-1D51-4E32-8E52-3200C01C3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BC319-96B6-4FAB-8B71-D1909EA28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D83BD-F0C9-4FB4-9451-6B7F259F77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27271-98E0-424D-983E-16B43617D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21CB8-8CD6-4A94-AA78-00E379A26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8841B-1C6C-461A-9959-1A02487BB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DDBC0A-2A0E-43E8-8E5B-22522DA65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59999-C291-40A4-966B-5D624B52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43D6FD-A7B6-42BB-97F4-6EFDF65F5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AEC3B0-79FE-46A4-A1CF-889381B24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96C3C-C360-4263-9086-95D0DBB99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C9113-0C0A-4618-8C33-97EDB7037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C61EA-A1D2-489B-9190-2E1C628043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DE3F45-C866-4701-9C55-55BA435675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C766E-3C2A-4661-A985-93749A8E13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9C63C-3877-4623-AF12-5DCAD3857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B5198-84B1-49A7-9903-0613AC612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4AF74-74CE-43BF-8F3E-AA26A70A5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BB580-8461-4B75-AA95-C1F4869EA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12F96-88D7-4938-9997-E6CF4739B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3027B-A111-406B-A238-A95E669D3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E47A-10AC-4857-9ADC-53B91B604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MPAS1"/>
          <p:cNvPicPr/>
          <p:nvPr/>
        </p:nvPicPr>
        <p:blipFill>
          <a:blip r:embed="rId2">
            <a:alphaModFix amt="69000"/>
          </a:blip>
          <a:stretch/>
        </p:blipFill>
        <p:spPr>
          <a:xfrm>
            <a:off x="6170760" y="0"/>
            <a:ext cx="2973240" cy="185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B4E9-EC46-4670-80D8-7A3FD8B07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COMPAS1"/>
          <p:cNvPicPr/>
          <p:nvPr/>
        </p:nvPicPr>
        <p:blipFill>
          <a:blip r:embed="rId2">
            <a:alphaModFix amt="69000"/>
          </a:blip>
          <a:stretch/>
        </p:blipFill>
        <p:spPr>
          <a:xfrm>
            <a:off x="6170760" y="0"/>
            <a:ext cx="2973240" cy="185904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DE80-BB49-4299-BA43-C0E91672E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5000"/>
            <a:ext cx="7772400" cy="283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a:endParaRPr>
          </a:p>
        </p:txBody>
      </p:sp>
      <p:sp>
        <p:nvSpPr>
          <p:cNvPr id="133" name="PlaceHolder 2"/>
          <p:cNvSpPr>
            <a:spLocks noGrp="1"/>
          </p:cNvSpPr>
          <p:nvPr>
            <p:ph type="subTitle"/>
          </p:nvPr>
        </p:nvSpPr>
        <p:spPr>
          <a:xfrm>
            <a:off x="468360" y="2781000"/>
            <a:ext cx="7848720" cy="23763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rebuchet MS"/>
              </a:rPr>
              <a:t>The Relationship between  Immigration Status and Rights: Exploring the Rational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rebuchet MS"/>
              </a:rPr>
              <a:t>LSE, 30 November 2010</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 MS"/>
              </a:rPr>
              <a:t>Sarah Spencer &amp; Jason Pobjoy</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 MS"/>
              </a:rPr>
              <a:t>Corresponding author Sarah.Spencer@Compas.ox.ac.u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0C71-EC85-41D6-BE71-5A084B20F9E1}"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at are the appropriate limits</a:t>
            </a:r>
            <a:br>
              <a:rPr sz="3200"/>
            </a:br>
            <a:r>
              <a:rPr b="1" lang="en-GB" sz="3200" spc="-1" strike="noStrike">
                <a:solidFill>
                  <a:srgbClr val="333399"/>
                </a:solidFill>
                <a:latin typeface="Arial"/>
              </a:rPr>
              <a:t>of border control?</a:t>
            </a:r>
            <a:endParaRPr b="0" lang="en-US" sz="32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is it legitimate for states to impose restrictions on rights as condition of entry and when should that capacity be superseded by the equality principle?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800" spc="-1" strike="noStrike">
                <a:solidFill>
                  <a:srgbClr val="000000"/>
                </a:solidFill>
                <a:latin typeface="Arial"/>
              </a:rPr>
              <a:t>(Bosniak 2006)</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due process of (ordinary) criminal law – equality principle prevails; in welfare benefits - does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at constitutes sufficient justification for that discrim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akes us to</a:t>
            </a:r>
            <a:r>
              <a:rPr b="0" lang="en-GB" sz="2400" spc="-1" strike="noStrike">
                <a:solidFill>
                  <a:srgbClr val="000000"/>
                </a:solidFill>
                <a:latin typeface="Arial"/>
              </a:rPr>
              <a:t> </a:t>
            </a:r>
            <a:r>
              <a:rPr b="0" i="1" lang="en-GB" sz="2400" spc="-1" strike="noStrike">
                <a:solidFill>
                  <a:srgbClr val="000000"/>
                </a:solidFill>
                <a:latin typeface="Arial"/>
              </a:rPr>
              <a:t>our research question</a:t>
            </a:r>
            <a:r>
              <a:rPr b="0" lang="en-GB" sz="2400" spc="-1" strike="noStrike">
                <a:solidFill>
                  <a:srgbClr val="000000"/>
                </a:solidFill>
                <a:latin typeface="Arial"/>
              </a:rPr>
              <a:t>: </a:t>
            </a:r>
            <a:r>
              <a:rPr b="0" lang="en-GB" sz="2400" spc="-1" strike="noStrike">
                <a:solidFill>
                  <a:srgbClr val="19194d"/>
                </a:solidFill>
                <a:latin typeface="Arial"/>
              </a:rPr>
              <a:t>What justifications have successive governments in UK provided in practice – for allocation or denial of rights? Are they sufficien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746B-CB75-4E0E-A160-49EB0C92DF9F}"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Research questions</a:t>
            </a:r>
            <a:endParaRPr b="0" lang="en-US" sz="32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llocation of right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ationale for the provision or denial of right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categories of migrants: </a:t>
            </a:r>
            <a:endParaRPr b="0" lang="en-US" sz="24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EA nationals, labour (PBS Tiers 1 and 2); non EEA students (PBS Tier 4), dependants, refugees, asylum seekers, refused asylum seekers.</a:t>
            </a:r>
            <a:endParaRPr b="0" lang="en-US" sz="2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rights:  </a:t>
            </a:r>
            <a:endParaRPr b="0" lang="en-US" sz="24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lthcare, education, social housing, family reunion/union.</a:t>
            </a:r>
            <a:endParaRPr b="0" lang="en-US" sz="20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olog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4ADA-468F-48FB-9760-644F8B5D5FF9}"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allocation of rights</a:t>
            </a: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omplex pattern of restrictions for 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antly shif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ttempt to map out the existing allocation of the four rights to eight categories of migrants, in order to identify current gaps in prote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5034-FC22-4202-A332-9AFA83279B66}"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i="1" lang="en-GB" sz="2400" spc="-1" strike="noStrike">
                <a:solidFill>
                  <a:srgbClr val="333399"/>
                </a:solidFill>
                <a:latin typeface="Arial"/>
              </a:rPr>
              <a:t>Example</a:t>
            </a:r>
            <a:r>
              <a:rPr b="0" lang="en-GB" sz="2400" spc="-1" strike="noStrike">
                <a:solidFill>
                  <a:srgbClr val="3333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Access to health care</a:t>
            </a:r>
            <a:endParaRPr b="0" lang="en-US" sz="2400" spc="-1" strike="noStrike">
              <a:solidFill>
                <a:srgbClr val="000000"/>
              </a:solidFill>
              <a:latin typeface="Arial"/>
            </a:endParaRPr>
          </a:p>
        </p:txBody>
      </p:sp>
      <p:pic>
        <p:nvPicPr>
          <p:cNvPr id="169" name="Picture 4" descr=""/>
          <p:cNvPicPr/>
          <p:nvPr/>
        </p:nvPicPr>
        <p:blipFill>
          <a:blip r:embed="rId1"/>
          <a:stretch/>
        </p:blipFill>
        <p:spPr>
          <a:xfrm>
            <a:off x="990720" y="228600"/>
            <a:ext cx="4267080" cy="647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D3AD-16D5-4BD3-8D42-5E309BCEF9E2}"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xploring the rationales</a:t>
            </a:r>
            <a:endParaRPr b="0" lang="en-US" sz="32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state is not a monolithic entity whose decisions are always rational in the sense that they result in policies that maximise a clear set of objectives in a transparent manner.  In practice, the “state” comprises various state institutions including different government departments with varying responsibilities, interests and capacities in the making and implementation of public policies’.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800" spc="-1" strike="noStrike">
                <a:solidFill>
                  <a:srgbClr val="000000"/>
                </a:solidFill>
                <a:latin typeface="Arial"/>
              </a:rPr>
              <a:t>(Ruhs and Anderson 2007: 6)</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54DE-2F57-4750-AD02-F669F93E1A2E}"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xploring the rationales</a:t>
            </a:r>
            <a:endParaRPr b="0" lang="en-US" sz="32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rguments used by government to justify provision of righ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policy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ights oblig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essional eth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cal consid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480F-E654-4497-B16C-FB3BA5185679}"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xploring the rationales</a:t>
            </a:r>
            <a:endParaRPr b="0"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rguments used by government to justify denial of righ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igration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policy obj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5418-8D23-4981-AEA0-817C497E6DEB}"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vision of rights</a:t>
            </a:r>
            <a:endParaRPr b="0" lang="en-US" sz="32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conomic objecti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 benefits of a healthy and educated society (but, what about further/higher education; restrictions on treatment for HIV/AI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acting highly skilled and skilled labour migrants, and students (for example, by allowing to be accompanied by family me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e movement rights of EEA nationals (underpinned by economic obj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FBDD-1A3E-4068-836B-3C969EB1C809}"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vision of rights</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ocial policy objecti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imperative duty to protect public heal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ucation for those of compulsory school age (currently 5-16 years) to ‘secure the future success of our country and soci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ADF8-9444-4446-8052-9B46E30C1F0B}"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vision of rights</a:t>
            </a:r>
            <a:endParaRPr b="0" lang="en-US" sz="32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uman rights oblig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health ca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 union and reun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ights arguments often used to criticise current restrictions on rights (including, occasionally, arguments for equa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obligations (ECHR domestically enforceable via HR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841D-76EF-45F3-B072-D388DE9B4149}"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Outline</a:t>
            </a:r>
            <a:endParaRPr b="0" lang="en-US" sz="32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 law and poli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ights from the litera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dings – allocation of righ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is – exploring the ration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18C3-4A52-4A98-A1EC-197A883AB704}"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vision of rights</a:t>
            </a:r>
            <a:endParaRPr b="0" lang="en-US" sz="32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Professional ethic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alth profession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Practical consider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st of enforcing restrictions (for example, access to health c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eed for restrictions to be ‘practical, proportionate and c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FCC1-393D-4030-B8E0-F426C05A2857}"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denial of rights</a:t>
            </a:r>
            <a:endParaRPr b="0" lang="en-US" sz="32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migration contro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eter arrival of those perceived to be attracted by access to services and to encourage irregular migrants to leave (on both of which evidence challen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trictions on entry to the UK of marriage (concerns about immigration evasion/forced marriage – underlying concerns re immigration nu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B954-9C83-4CF5-B159-159AB75AAA0F}"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denial of rights</a:t>
            </a:r>
            <a:endParaRPr b="0" lang="en-US" sz="32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conomic objectives</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st of providing public services.</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the NHS (but not access to education services?).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consultation re compulsory health insurance for some categories of migrants.</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ocial policy objectives</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easing public concern.  For example, pressure on government in allocation of social hous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0ED9-80D1-4BE3-AB14-B875F7A77A3A}"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missing rationale</a:t>
            </a:r>
            <a:endParaRPr b="0" lang="en-US" sz="32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 advancement of equality</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our Government’s last Business Plan for the Government Equality Office (2010-2011) cited three reasons why its vision was for a ‘fair and equal society for all’:</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Fairness and equality are important for individuals. We should all have the right to</a:t>
            </a:r>
            <a:r>
              <a:rPr b="0" lang="en-AU" sz="1400" spc="-1" strike="noStrike">
                <a:solidFill>
                  <a:srgbClr val="000000"/>
                </a:solidFill>
                <a:latin typeface="Arial"/>
              </a:rPr>
              <a:t> </a:t>
            </a:r>
            <a:r>
              <a:rPr b="0" lang="en-US" sz="1400" spc="-1" strike="noStrike">
                <a:solidFill>
                  <a:srgbClr val="000000"/>
                </a:solidFill>
                <a:latin typeface="Arial"/>
              </a:rPr>
              <a:t>achieve our potential, regardless of our background or personal characteristics such as gender, race or age, and it is unacceptable that factors such as where we are born should have a significant and lasting difference to our ability to realise our aspiration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ising this ambition will be critical not just for each of us as individuals, but is also critical for our society and for our economy, and for a return to sustained growth……A key element of the Government’s strategy to increase prosperity for the future therefore will be to ensure that we draw on, develop and retain all the available talents, and that goods and services are accessible by all.</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qual society is more cohesive and at ease with itself’.</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 2010).</a:t>
            </a:r>
            <a:r>
              <a:rPr b="0" lang="en-A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A030-6C7C-4B1B-97D2-5416842C375E}"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missing rationale</a:t>
            </a:r>
            <a:endParaRPr b="0" lang="en-US" sz="32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November 2010, Theresa May, Minister for Women and Equalities stressed that equality ‘is at the heart of what [the] coalition government is about’:</a:t>
            </a:r>
            <a:endParaRPr b="0" lang="en-US" sz="18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orally, everyone would agree that people have a right to be treated equally and to live their lives free from discrimination. Anyone who has ever been on the receiving end of discrimination knows how painful, hurtful and damaging it can be and why we should seek to eliminate it from our society. And anyone who has ever witnessed discrimination would want to stamp it out.</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equality is not just important to us as individuals. It is also essential to our wellbeing as a society. Strong communities are ones where everyone feels like they have got a voice and can make a difference.</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those people within communities who are allowed to fall too far behind are more likely to get caught up in social problems like crime, addiction and unemployment.</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brings me on to the third reason why equality matters. Economically, equality of opportunity is vital to our prosperity. It is central to building a strong, modern economy that benefits from the talents of all of its members. </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equality is not an add on or an optional extra that we should only care about when money is plentiful – it matters morally, it is important to our well-being as a society and it is crucial to our economy’. </a:t>
            </a:r>
            <a:endParaRPr b="0" lang="en-US" sz="1400" spc="-1" strike="noStrike">
              <a:solidFill>
                <a:srgbClr val="000000"/>
              </a:solidFill>
              <a:latin typeface="Arial"/>
            </a:endParaRPr>
          </a:p>
          <a:p>
            <a:pPr lvl="1" marL="720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y, 2010).</a:t>
            </a:r>
            <a:r>
              <a:rPr b="0" lang="en-AU" sz="1400" spc="-1" strike="noStrike">
                <a:solidFill>
                  <a:srgbClr val="000000"/>
                </a:solidFill>
                <a:latin typeface="Arial"/>
              </a:rPr>
              <a:t> </a:t>
            </a:r>
            <a:endParaRPr b="0" lang="en-US" sz="1400" spc="-1" strike="noStrike">
              <a:solidFill>
                <a:srgbClr val="000000"/>
              </a:solidFill>
              <a:latin typeface="Arial"/>
            </a:endParaRPr>
          </a:p>
          <a:p>
            <a:pPr lvl="1" marL="72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AE6C-766B-41C9-A4A9-B49B8AF995C0}"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clusions</a:t>
            </a:r>
            <a:endParaRPr b="0" lang="en-US" sz="32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tegorised different rationales that have been used by government to justify the provision or denial of particular rights to particular categories of 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identified an additional rationale, which has received scant attention: the advancement of equal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missing’ rationale finds support 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the value attached to equality in a liberal democracy, as reflected in recent review and reform of the legal framework to protect against discrimination and promote equality in the United Kingdom; a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  international and European human rights standard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3B2C-1FAA-4EE2-AF5E-10133415F4D1}"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clusions</a:t>
            </a:r>
            <a:endParaRPr b="0" lang="en-US" sz="32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y one of these rationales (though likely a combination) </a:t>
            </a:r>
            <a:r>
              <a:rPr b="0" i="1" lang="en-AU" sz="2400" spc="-1" strike="noStrike">
                <a:solidFill>
                  <a:srgbClr val="000000"/>
                </a:solidFill>
                <a:latin typeface="Arial"/>
              </a:rPr>
              <a:t>might </a:t>
            </a:r>
            <a:r>
              <a:rPr b="0" lang="en-AU" sz="2400" spc="-1" strike="noStrike">
                <a:solidFill>
                  <a:srgbClr val="000000"/>
                </a:solidFill>
                <a:latin typeface="Arial"/>
              </a:rPr>
              <a:t>provide an ‘objective and reasonable’ justification for differential treatment between citizens and migrants, or between different categories of 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order to undertake this ‘balancing exercise’ it is important that any justification is explicit, and that it has a solid evidential foundation. (that is, we need to promote a ‘culture of justifica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C659-637C-4B60-A86B-D206ED722A2C}"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clusions</a:t>
            </a:r>
            <a:endParaRPr b="0" lang="en-US" sz="32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present, in the context of allocating rights to migrants, a general ‘culture of justification’ is lacking.</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wo potential reasons for thi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 assumption that the right to be discriminated against simply does not apply to migrants (consider Schedule 3 and Schedule 23 of the Equality Act 2010).</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 assumption that status as a migrant will </a:t>
            </a:r>
            <a:r>
              <a:rPr b="0" i="1" lang="en-AU" sz="2000" spc="-1" strike="noStrike">
                <a:solidFill>
                  <a:srgbClr val="000000"/>
                </a:solidFill>
                <a:latin typeface="Arial"/>
              </a:rPr>
              <a:t>automatically </a:t>
            </a:r>
            <a:r>
              <a:rPr b="0" lang="en-AU" sz="2000" spc="-1" strike="noStrike">
                <a:solidFill>
                  <a:srgbClr val="000000"/>
                </a:solidFill>
                <a:latin typeface="Arial"/>
              </a:rPr>
              <a:t>provide an objective and reasonable justification for differential treatment; that is, sufficient justification for the hierarchical allocation of rights.</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th assumptions are unwarranted and incorrect as a matter of law.</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0585-6361-435F-8CD1-633F4E35DCB0}"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clusions</a:t>
            </a:r>
            <a:endParaRPr b="0" lang="en-US" sz="32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s necessary for for the government to critically examine conflicting pressures and rationales, to identify if and where the balance might need to be redra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our view, that examination should be anchored in principles of equality and non-discrim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ly a thorough analysis of the evidence on which any exclusion from rights is based, and the consequences of that exclusion, will make it possible to assess whether government is indeed justified in ‘taking the border inside’ to restrict the rights of those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006D-A802-4F0B-8E3C-8AD39E51B307}"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333399"/>
                </a:solidFill>
                <a:latin typeface="Arial"/>
              </a:rPr>
              <a:t>Equality Act 2010</a:t>
            </a:r>
            <a:br>
              <a:rPr sz="3200"/>
            </a:br>
            <a:r>
              <a:rPr b="1" lang="en-GB" sz="2400" spc="-1" strike="noStrike">
                <a:solidFill>
                  <a:srgbClr val="333399"/>
                </a:solidFill>
                <a:latin typeface="Arial"/>
              </a:rPr>
              <a:t>Schedule 3, Part 4</a:t>
            </a:r>
            <a:br>
              <a:rPr sz="2800"/>
            </a:br>
            <a:r>
              <a:rPr b="0" lang="en-GB" sz="2000" spc="-1" strike="noStrike">
                <a:solidFill>
                  <a:srgbClr val="333399"/>
                </a:solidFill>
                <a:latin typeface="Arial"/>
              </a:rPr>
              <a:t>‘</a:t>
            </a:r>
            <a:r>
              <a:rPr b="0" lang="en-AU" sz="2000" spc="-1" strike="noStrike">
                <a:solidFill>
                  <a:srgbClr val="333399"/>
                </a:solidFill>
                <a:latin typeface="Arial"/>
              </a:rPr>
              <a:t>Nationality and Ethnic or National Origins’</a:t>
            </a:r>
            <a:br>
              <a:rPr sz="2000"/>
            </a:br>
            <a:endParaRPr b="0" lang="en-US" sz="2000" spc="-1" strike="noStrike">
              <a:solidFill>
                <a:srgbClr val="000000"/>
              </a:solidFill>
              <a:latin typeface="Arial"/>
            </a:endParaRPr>
          </a:p>
        </p:txBody>
      </p:sp>
      <p:sp>
        <p:nvSpPr>
          <p:cNvPr id="217" name="Rectangle 5"/>
          <p:cNvSpPr/>
          <p:nvPr/>
        </p:nvSpPr>
        <p:spPr>
          <a:xfrm>
            <a:off x="539640" y="1824480"/>
            <a:ext cx="7936200" cy="423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  (1)  This paragraph applies in relation to race discrimination so far as relating to</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  nationality, or (b) ethnic or national origins.</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ction 29 does not apply to anything done by a relevant person in the exercise of functions exercisable by virtue of a relevant enactment.</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i="1" lang="en-AU" sz="1600" spc="-1" strike="noStrike">
                <a:solidFill>
                  <a:srgbClr val="000000"/>
                </a:solidFill>
                <a:latin typeface="Arial"/>
              </a:rPr>
              <a:t>A ‘relevant person’ is defined in 17(3)-(4) as a Minister of the Crown or a person required or authorised to act by a Minister or by a relevant </a:t>
            </a:r>
            <a:r>
              <a:rPr b="0" lang="en-AU" sz="1600" spc="-1" strike="noStrike">
                <a:solidFill>
                  <a:srgbClr val="000000"/>
                </a:solidFill>
                <a:latin typeface="Arial"/>
              </a:rPr>
              <a:t>Act</a:t>
            </a:r>
            <a:r>
              <a:rPr b="0" i="1" lang="en-AU" sz="1600" spc="-1" strike="noStrike">
                <a:solidFill>
                  <a:srgbClr val="000000"/>
                </a:solidFill>
                <a:latin typeface="Arial"/>
              </a:rPr>
              <a:t> or instrument under an Act</a:t>
            </a:r>
            <a:r>
              <a:rPr b="0" lang="en-AU" sz="1600" spc="-1" strike="noStrike">
                <a:solidFill>
                  <a:srgbClr val="000000"/>
                </a:solidFill>
                <a:latin typeface="Arial"/>
              </a:rPr>
              <a:t>.]</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The relevant enactments are— (a) the Immigration Acts, (b) the Special Immigration Appeals Commission Act 1997, (c) a provision made under section 2(2) of the European Communities Act 1972  which relates to immigration or asylum, and (d) a provision of Community law which relates to immigration or asylum.</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except sections relating to powers of arrest, entry and </a:t>
            </a:r>
            <a:r>
              <a:rPr b="0" lang="en-AU" sz="1600" spc="-1" strike="noStrike">
                <a:solidFill>
                  <a:srgbClr val="000000"/>
                </a:solidFill>
                <a:latin typeface="Arial"/>
              </a:rPr>
              <a:t>search].</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33399"/>
                </a:solidFill>
                <a:latin typeface="Arial"/>
              </a:rPr>
              <a:t>Note: Section 29 makes discrimination in public services unlawful</a:t>
            </a:r>
            <a:endParaRPr b="0" lang="en-US" sz="1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6522-9848-46F9-8457-4156A2AE41CF}"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Our question</a:t>
            </a:r>
            <a:endParaRPr b="0" lang="en-US" sz="3200" spc="-1" strike="noStrike">
              <a:solidFill>
                <a:srgbClr val="000000"/>
              </a:solidFill>
              <a:latin typeface="Arial"/>
            </a:endParaRPr>
          </a:p>
        </p:txBody>
      </p:sp>
      <p:sp>
        <p:nvSpPr>
          <p:cNvPr id="139" name="PlaceHolder 2"/>
          <p:cNvSpPr>
            <a:spLocks noGrp="1"/>
          </p:cNvSpPr>
          <p:nvPr>
            <p:ph/>
          </p:nvPr>
        </p:nvSpPr>
        <p:spPr>
          <a:xfrm>
            <a:off x="468360" y="1916280"/>
            <a:ext cx="8229600" cy="4525920"/>
          </a:xfrm>
          <a:prstGeom prst="rect">
            <a:avLst/>
          </a:prstGeom>
          <a:noFill/>
          <a:ln w="0">
            <a:noFill/>
          </a:ln>
        </p:spPr>
        <p:txBody>
          <a:bodyPr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400" spc="-1" strike="noStrike">
                <a:solidFill>
                  <a:srgbClr val="000000"/>
                </a:solidFill>
                <a:latin typeface="Arial"/>
              </a:rPr>
              <a:t>‘</a:t>
            </a:r>
            <a:r>
              <a:rPr b="0" i="1" lang="en-GB" sz="2400" spc="-1" strike="noStrike">
                <a:solidFill>
                  <a:srgbClr val="000000"/>
                </a:solidFill>
                <a:latin typeface="Arial"/>
              </a:rPr>
              <a:t>I absolutely believe that fairness and equality of opportunity should be the rights </a:t>
            </a:r>
            <a:r>
              <a:rPr b="0" i="1" lang="en-GB" sz="2400" spc="-1" strike="noStrike" u="sng">
                <a:solidFill>
                  <a:srgbClr val="000000"/>
                </a:solidFill>
                <a:uFillTx/>
                <a:latin typeface="Arial"/>
              </a:rPr>
              <a:t>of every single individual</a:t>
            </a:r>
            <a:r>
              <a:rPr b="0" i="1" lang="en-GB" sz="2400" spc="-1" strike="noStrike">
                <a:solidFill>
                  <a:srgbClr val="000000"/>
                </a:solidFill>
                <a:latin typeface="Arial"/>
              </a:rPr>
              <a:t> in this country</a:t>
            </a:r>
            <a:r>
              <a:rPr b="0" lang="en-GB" sz="2400" spc="-1" strike="noStrike">
                <a:solidFill>
                  <a:srgbClr val="000000"/>
                </a:solidFill>
                <a:latin typeface="Arial"/>
              </a:rPr>
              <a:t>’ (</a:t>
            </a:r>
            <a:r>
              <a:rPr b="0" lang="en-GB" sz="1800" spc="-1" strike="noStrike">
                <a:solidFill>
                  <a:srgbClr val="000000"/>
                </a:solidFill>
                <a:latin typeface="Arial"/>
              </a:rPr>
              <a:t>Theresa May, 2009)</a:t>
            </a:r>
            <a:endParaRPr b="0" lang="en-US" sz="18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quality Act 2010 provides legal framework </a:t>
            </a:r>
            <a:endParaRPr b="0" lang="en-US" sz="24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to protect the rights of individuals and advance equality of opportunity</a:t>
            </a:r>
            <a:r>
              <a:rPr b="0" lang="en-GB" sz="2400" spc="-1" strike="noStrike">
                <a:solidFill>
                  <a:srgbClr val="000000"/>
                </a:solidFill>
                <a:latin typeface="Arial"/>
              </a:rPr>
              <a:t> </a:t>
            </a:r>
            <a:r>
              <a:rPr b="0" i="1" lang="en-GB" sz="2400" spc="-1" strike="noStrike" u="sng">
                <a:solidFill>
                  <a:srgbClr val="000000"/>
                </a:solidFill>
                <a:uFillTx/>
                <a:latin typeface="Arial"/>
              </a:rPr>
              <a:t>for all’</a:t>
            </a:r>
            <a:r>
              <a:rPr b="0" i="1" lang="en-GB" sz="2400" spc="-1" strike="noStrike">
                <a:solidFill>
                  <a:srgbClr val="000000"/>
                </a:solidFill>
                <a:latin typeface="Arial"/>
              </a:rPr>
              <a:t> </a:t>
            </a:r>
            <a:r>
              <a:rPr b="0" lang="en-GB" sz="1800" spc="-1" strike="noStrike">
                <a:solidFill>
                  <a:srgbClr val="000000"/>
                </a:solidFill>
                <a:latin typeface="Arial"/>
              </a:rPr>
              <a:t>(GEO 2010)</a:t>
            </a:r>
            <a:endParaRPr b="0" lang="en-US" sz="18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et migrants (here: born abroad &amp; non citizens) often precluded </a:t>
            </a:r>
            <a:r>
              <a:rPr b="0" lang="en-GB" sz="2400" spc="-1" strike="noStrike" u="sng">
                <a:solidFill>
                  <a:srgbClr val="000000"/>
                </a:solidFill>
                <a:uFillTx/>
                <a:latin typeface="Arial"/>
              </a:rPr>
              <a:t>by law</a:t>
            </a:r>
            <a:r>
              <a:rPr b="0" lang="en-GB" sz="2400" spc="-1" strike="noStrike">
                <a:solidFill>
                  <a:srgbClr val="000000"/>
                </a:solidFill>
                <a:latin typeface="Arial"/>
              </a:rPr>
              <a:t> from equality of opportunity - complex pattern of access and restriction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is the ration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2D88-CD61-4D82-A064-FC53CF6949EB}"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quality Act 2010</a:t>
            </a:r>
            <a:br>
              <a:rPr sz="3200"/>
            </a:br>
            <a:r>
              <a:rPr b="1" lang="en-GB" sz="2400" spc="-1" strike="noStrike">
                <a:solidFill>
                  <a:srgbClr val="333399"/>
                </a:solidFill>
                <a:latin typeface="Arial"/>
              </a:rPr>
              <a:t>Schedule 23</a:t>
            </a:r>
            <a:br>
              <a:rPr sz="4000"/>
            </a:br>
            <a:r>
              <a:rPr b="0" lang="en-AU" sz="2000" spc="-1" strike="noStrike">
                <a:solidFill>
                  <a:srgbClr val="333399"/>
                </a:solidFill>
                <a:latin typeface="Arial"/>
              </a:rPr>
              <a:t>General exceptions</a:t>
            </a:r>
            <a:endParaRPr b="0" lang="en-US" sz="2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  (1) This paragraph applies to anything do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a)  in pursuance of an enact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b)  in pursuance of an instrument made by a member of the executive under an enact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c)  to comply with a requirement imposed (whether before or after the passing of this Act) by a member of the executive by virtue of an enact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d)  in pursuance of arrangements made (whether before or after the passing of this Act) by or with the approval of, or for the time being approved by, a Minister of the Cr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e)  to comply with a condition imposed (whether before or after the passing of this Act) by a Minister of the Cr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  A person does not contravene Part 3, 4, 5 or 6 by doing anything to which this paragraph applies which discriminates against another because of the other's national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A person (A) does not contravene Part 3, 4, 5 or 6 if, by doing anything to which this paragraph applies, A discriminates against another (B) by applying to B a provision, criterion or practice which relates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a)  B's place of ordinary resid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b)  the length of time B has been present or resident in or outside the United Kingdom or an area within i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99"/>
                </a:solidFill>
                <a:latin typeface="Arial"/>
              </a:rPr>
              <a:t>Note Parts, 3, 4, 5 and 6 of the Act cover discrimination in services, public function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99"/>
                </a:solidFill>
                <a:latin typeface="Arial"/>
              </a:rPr>
              <a:t>premises, employment and educ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DB44-52A2-427A-B8EC-428F654DB98F}"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ources</a:t>
            </a:r>
            <a:endParaRPr b="0" lang="en-US" sz="32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bock, R.</a:t>
            </a:r>
            <a:r>
              <a:rPr b="0" lang="en-GB" sz="1200" spc="-1" strike="noStrike">
                <a:solidFill>
                  <a:srgbClr val="000000"/>
                </a:solidFill>
                <a:latin typeface="Arial"/>
              </a:rPr>
              <a:t> (1994). Changing the Boundaries of Citizenship: The inclusion of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migrants in democratic politics. </a:t>
            </a:r>
            <a:r>
              <a:rPr b="0" lang="en-GB" sz="1200" spc="-1" strike="noStrike" u="sng">
                <a:solidFill>
                  <a:srgbClr val="000000"/>
                </a:solidFill>
                <a:uFillTx/>
                <a:latin typeface="Arial"/>
              </a:rPr>
              <a:t>From Aliens to Citizens: Redefining the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tatus of Immigrants in Europe</a:t>
            </a:r>
            <a:r>
              <a:rPr b="0" lang="en-GB" sz="1200" spc="-1" strike="noStrike">
                <a:solidFill>
                  <a:srgbClr val="000000"/>
                </a:solidFill>
                <a:latin typeface="Arial"/>
              </a:rPr>
              <a:t>. R. Baubock. Aldershot, Avebury.</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nhabib, S</a:t>
            </a:r>
            <a:r>
              <a:rPr b="0" lang="en-GB" sz="1200" spc="-1" strike="noStrike">
                <a:solidFill>
                  <a:srgbClr val="000000"/>
                </a:solidFill>
                <a:latin typeface="Arial"/>
              </a:rPr>
              <a:t>. (2004). </a:t>
            </a:r>
            <a:r>
              <a:rPr b="0" lang="en-GB" sz="1200" spc="-1" strike="noStrike" u="sng">
                <a:solidFill>
                  <a:srgbClr val="000000"/>
                </a:solidFill>
                <a:uFillTx/>
                <a:latin typeface="Arial"/>
              </a:rPr>
              <a:t>The Rights of Others, Aliens, Residents and Citizens</a:t>
            </a:r>
            <a:r>
              <a:rPr b="0" lang="en-GB" sz="1200" spc="-1" strike="noStrike">
                <a:solidFill>
                  <a:srgbClr val="000000"/>
                </a:solidFill>
                <a:latin typeface="Arial"/>
              </a:rPr>
              <a:t>.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bridge, Cambridge University Press.</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sniak, L</a:t>
            </a:r>
            <a:r>
              <a:rPr b="0" lang="en-GB" sz="1200" spc="-1" strike="noStrike">
                <a:solidFill>
                  <a:srgbClr val="000000"/>
                </a:solidFill>
                <a:latin typeface="Arial"/>
              </a:rPr>
              <a:t> (2006) </a:t>
            </a:r>
            <a:r>
              <a:rPr b="0" lang="en-US" sz="1200" spc="-1" strike="noStrike" u="sng">
                <a:solidFill>
                  <a:srgbClr val="000000"/>
                </a:solidFill>
                <a:uFillTx/>
                <a:latin typeface="Arial"/>
              </a:rPr>
              <a:t>The Citizen and the Alien, Dilemmas of Contemporary Membership</a:t>
            </a:r>
            <a:r>
              <a:rPr b="0" lang="en-US" sz="1200" spc="-1" strike="noStrike">
                <a:solidFill>
                  <a:srgbClr val="000000"/>
                </a:solidFill>
                <a:latin typeface="Arial"/>
              </a:rPr>
              <a:t>. Princeton and Oxford, Princeton University Press.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swell, C</a:t>
            </a:r>
            <a:r>
              <a:rPr b="0" lang="en-GB" sz="1200" spc="-1" strike="noStrike">
                <a:solidFill>
                  <a:srgbClr val="000000"/>
                </a:solidFill>
                <a:latin typeface="Arial"/>
              </a:rPr>
              <a:t> (2007) “Theorizing Migration Policy: Is there a third way?”, </a:t>
            </a:r>
            <a:r>
              <a:rPr b="0" lang="en-GB" sz="1200" spc="-1" strike="noStrike" u="sng">
                <a:solidFill>
                  <a:srgbClr val="000000"/>
                </a:solidFill>
                <a:uFillTx/>
                <a:latin typeface="Arial"/>
              </a:rPr>
              <a:t>International Migration Review 41 (1) 75-100</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mmar, T.</a:t>
            </a:r>
            <a:r>
              <a:rPr b="0" lang="en-GB" sz="1200" spc="-1" strike="noStrike">
                <a:solidFill>
                  <a:srgbClr val="000000"/>
                </a:solidFill>
                <a:latin typeface="Arial"/>
              </a:rPr>
              <a:t> (1990). </a:t>
            </a:r>
            <a:r>
              <a:rPr b="0" lang="en-GB" sz="1200" spc="-1" strike="noStrike" u="sng">
                <a:solidFill>
                  <a:srgbClr val="000000"/>
                </a:solidFill>
                <a:uFillTx/>
                <a:latin typeface="Arial"/>
              </a:rPr>
              <a:t>Democracy and the Nation State: Aliens, Denizens and Citizens in a World of International Migration</a:t>
            </a:r>
            <a:r>
              <a:rPr b="0" lang="en-GB" sz="1200" spc="-1" strike="noStrike">
                <a:solidFill>
                  <a:srgbClr val="000000"/>
                </a:solidFill>
                <a:latin typeface="Arial"/>
              </a:rPr>
              <a:t>. Aldershot, Avebury.</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llifield</a:t>
            </a:r>
            <a:r>
              <a:rPr b="0" lang="en-GB" sz="1200" spc="-1" strike="noStrike">
                <a:solidFill>
                  <a:srgbClr val="000000"/>
                </a:solidFill>
                <a:latin typeface="Arial"/>
              </a:rPr>
              <a:t>, J. (2004). "The Emerging Migration State." </a:t>
            </a:r>
            <a:r>
              <a:rPr b="0" lang="en-GB" sz="1200" spc="-1" strike="noStrike" u="sng">
                <a:solidFill>
                  <a:srgbClr val="000000"/>
                </a:solidFill>
                <a:uFillTx/>
                <a:latin typeface="Arial"/>
              </a:rPr>
              <a:t>International Migration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Review</a:t>
            </a:r>
            <a:r>
              <a:rPr b="0" lang="en-GB" sz="1200" spc="-1" strike="noStrike">
                <a:solidFill>
                  <a:srgbClr val="000000"/>
                </a:solidFill>
                <a:latin typeface="Arial"/>
              </a:rPr>
              <a:t> </a:t>
            </a:r>
            <a:r>
              <a:rPr b="1" lang="en-GB" sz="1200" spc="-1" strike="noStrike">
                <a:solidFill>
                  <a:srgbClr val="000000"/>
                </a:solidFill>
                <a:latin typeface="Arial"/>
              </a:rPr>
              <a:t>38</a:t>
            </a:r>
            <a:r>
              <a:rPr b="0" lang="en-GB" sz="1200" spc="-1" strike="noStrike">
                <a:solidFill>
                  <a:srgbClr val="000000"/>
                </a:solidFill>
                <a:latin typeface="Arial"/>
              </a:rPr>
              <a:t>(3): 885-912.</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O </a:t>
            </a:r>
            <a:r>
              <a:rPr b="0" lang="en-GB" sz="1200" spc="-1" strike="noStrike">
                <a:solidFill>
                  <a:srgbClr val="000000"/>
                </a:solidFill>
                <a:latin typeface="Arial"/>
              </a:rPr>
              <a:t>(2010) </a:t>
            </a:r>
            <a:r>
              <a:rPr b="0" lang="en-GB" sz="1200" spc="-1" strike="noStrike" u="sng">
                <a:solidFill>
                  <a:srgbClr val="000000"/>
                </a:solidFill>
                <a:uFillTx/>
                <a:latin typeface="Arial"/>
              </a:rPr>
              <a:t>Turning Policy into Action: Business Plan 2010-2011</a:t>
            </a:r>
            <a:r>
              <a:rPr b="0" lang="en-GB" sz="1200" spc="-1" strike="noStrike">
                <a:solidFill>
                  <a:srgbClr val="000000"/>
                </a:solidFill>
                <a:latin typeface="Arial"/>
              </a:rPr>
              <a:t> Government Equality Office, London</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a:t>
            </a:r>
            <a:r>
              <a:rPr b="0" lang="en-US" sz="1200" spc="-1" strike="noStrike">
                <a:solidFill>
                  <a:srgbClr val="000000"/>
                </a:solidFill>
                <a:latin typeface="Arial"/>
              </a:rPr>
              <a:t> webpage ‘Equality Act 2010’ http://www.equalities.gov.uk/equality_act_2010.aspx (emphasis added)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y, T</a:t>
            </a:r>
            <a:r>
              <a:rPr b="0" lang="en-GB" sz="1200" spc="-1" strike="noStrike">
                <a:solidFill>
                  <a:srgbClr val="000000"/>
                </a:solidFill>
                <a:latin typeface="Arial"/>
              </a:rPr>
              <a:t> (2009) </a:t>
            </a:r>
            <a:r>
              <a:rPr b="0" lang="en-US" sz="1200" spc="-1" strike="noStrike">
                <a:solidFill>
                  <a:srgbClr val="000000"/>
                </a:solidFill>
                <a:latin typeface="Arial"/>
              </a:rPr>
              <a:t>Second Reading, Equality Bill, 11 May 2009, Col 565 (emphasis added)</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y, T </a:t>
            </a:r>
            <a:r>
              <a:rPr b="0" lang="en-GB" sz="1200" spc="-1" strike="noStrike">
                <a:solidFill>
                  <a:srgbClr val="000000"/>
                </a:solidFill>
                <a:latin typeface="Arial"/>
              </a:rPr>
              <a:t>(2010) “Equality Strategy Speech”, Coin Street Community Centre, 17 November 2010, http://www.homeoffice.gov.uk/media-centre/speeches/equality-vision</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ris, L.</a:t>
            </a:r>
            <a:r>
              <a:rPr b="0" lang="en-GB" sz="1200" spc="-1" strike="noStrike">
                <a:solidFill>
                  <a:srgbClr val="000000"/>
                </a:solidFill>
                <a:latin typeface="Arial"/>
              </a:rPr>
              <a:t> (2002). </a:t>
            </a:r>
            <a:r>
              <a:rPr b="0" lang="en-GB" sz="1200" spc="-1" strike="noStrike" u="sng">
                <a:solidFill>
                  <a:srgbClr val="000000"/>
                </a:solidFill>
                <a:uFillTx/>
                <a:latin typeface="Arial"/>
              </a:rPr>
              <a:t>Managing migration: civic stratification and migrants’ rights</a:t>
            </a:r>
            <a:r>
              <a:rPr b="0" lang="en-GB" sz="1200" spc="-1" strike="noStrike">
                <a:solidFill>
                  <a:srgbClr val="000000"/>
                </a:solidFill>
                <a:latin typeface="Arial"/>
              </a:rPr>
              <a:t>.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don and New York, Routledge.</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hs M. and B. Anderson </a:t>
            </a:r>
            <a:r>
              <a:rPr b="0" lang="en-GB" sz="1200" spc="-1" strike="noStrike">
                <a:solidFill>
                  <a:srgbClr val="000000"/>
                </a:solidFill>
                <a:latin typeface="Arial"/>
              </a:rPr>
              <a:t>(2007). “The origins and functions of illegality in migrant labour markets: Ananalysis of migrants, employers and the state of the UK.  </a:t>
            </a:r>
            <a:r>
              <a:rPr b="0" lang="en-GB" sz="1200" spc="-1" strike="noStrike" u="sng">
                <a:solidFill>
                  <a:srgbClr val="000000"/>
                </a:solidFill>
                <a:uFillTx/>
                <a:latin typeface="Arial"/>
              </a:rPr>
              <a:t>Compas Working Paper</a:t>
            </a:r>
            <a:r>
              <a:rPr b="0" lang="en-GB" sz="1200" spc="-1" strike="noStrike">
                <a:solidFill>
                  <a:srgbClr val="000000"/>
                </a:solidFill>
                <a:latin typeface="Arial"/>
              </a:rPr>
              <a:t>.  Oxford Centre on Migration, Policy and Society, University of Oxford.</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hs, M.</a:t>
            </a:r>
            <a:r>
              <a:rPr b="0" lang="en-GB" sz="1200" spc="-1" strike="noStrike">
                <a:solidFill>
                  <a:srgbClr val="000000"/>
                </a:solidFill>
                <a:latin typeface="Arial"/>
              </a:rPr>
              <a:t> (2010). "Migrant Rights, Immigration Policy and Human Development."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Journal of Human Development and Capabilities</a:t>
            </a:r>
            <a:r>
              <a:rPr b="0" lang="en-GB" sz="1200" spc="-1" strike="noStrike">
                <a:solidFill>
                  <a:srgbClr val="000000"/>
                </a:solidFill>
                <a:latin typeface="Arial"/>
              </a:rPr>
              <a:t> 11(2): 259-279.</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ysal, Y. N.</a:t>
            </a:r>
            <a:r>
              <a:rPr b="0" lang="en-GB" sz="1200" spc="-1" strike="noStrike">
                <a:solidFill>
                  <a:srgbClr val="000000"/>
                </a:solidFill>
                <a:latin typeface="Arial"/>
              </a:rPr>
              <a:t> (1994). </a:t>
            </a:r>
            <a:r>
              <a:rPr b="0" lang="en-GB" sz="1200" spc="-1" strike="noStrike" u="sng">
                <a:solidFill>
                  <a:srgbClr val="000000"/>
                </a:solidFill>
                <a:uFillTx/>
                <a:latin typeface="Arial"/>
              </a:rPr>
              <a:t>Limits of Citizenship: Migrants and Postnational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Membership in Europe</a:t>
            </a:r>
            <a:r>
              <a:rPr b="0" lang="en-GB" sz="1200" spc="-1" strike="noStrike">
                <a:solidFill>
                  <a:srgbClr val="000000"/>
                </a:solidFill>
                <a:latin typeface="Arial"/>
              </a:rPr>
              <a:t>. Chicago, University of Chicago Pr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37FC-AE6A-4981-817B-5F7D28C2B637}"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Our aim</a:t>
            </a:r>
            <a:endParaRPr b="0" lang="en-US" sz="32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comprehensive analysis but illustrative – exploring 4 rights – framework for further inqui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mise not equal rights, all respects, all migrants from day one but, set against value attached to equality in liberal democracy, as articulated in international human rights law, to facilitate debate: equality for whom, when, and on what grou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Note: </a:t>
            </a:r>
            <a:r>
              <a:rPr b="0" lang="en-GB" sz="2400" spc="-1" strike="noStrike">
                <a:solidFill>
                  <a:srgbClr val="000000"/>
                </a:solidFill>
                <a:latin typeface="Arial"/>
              </a:rPr>
              <a:t>not examining extent to which migrants in practice enjoy rights to which they </a:t>
            </a:r>
            <a:r>
              <a:rPr b="0" i="1" lang="en-GB" sz="2400" spc="-1" strike="noStrike">
                <a:solidFill>
                  <a:srgbClr val="000000"/>
                </a:solidFill>
                <a:latin typeface="Arial"/>
              </a:rPr>
              <a:t>are</a:t>
            </a:r>
            <a:r>
              <a:rPr b="0" lang="en-GB" sz="2400" spc="-1" strike="noStrike">
                <a:solidFill>
                  <a:srgbClr val="000000"/>
                </a:solidFill>
                <a:latin typeface="Arial"/>
              </a:rPr>
              <a:t> by law entitl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525B-6504-498D-B90F-798BFD982CAF}"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inda Bosniak argues..</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t is common in the literature to come across ‘laundry lists of the vectors of subordination’ such as race, gender, class and disability but texts invariably fail to mention immigration stat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exts focus on inequality among those entitled to equality while ignoring those who by law are denied full enjoyment of social, political and civil rights.</a:t>
            </a:r>
            <a:br>
              <a:rPr sz="2400"/>
            </a:br>
            <a:r>
              <a:rPr b="0" lang="en-GB" sz="1800" spc="-1" strike="noStrike">
                <a:solidFill>
                  <a:srgbClr val="000000"/>
                </a:solidFill>
                <a:latin typeface="Arial"/>
              </a:rPr>
              <a:t>(Bosniak 2006:4)</a:t>
            </a: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paper addresses that ga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FC5D-2F10-4ABB-88AC-E0A695D07F39}"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text: International &amp; </a:t>
            </a:r>
            <a:br>
              <a:rPr sz="3200"/>
            </a:br>
            <a:r>
              <a:rPr b="1" lang="en-GB" sz="3200" spc="-1" strike="noStrike">
                <a:solidFill>
                  <a:srgbClr val="333399"/>
                </a:solidFill>
                <a:latin typeface="Arial"/>
              </a:rPr>
              <a:t>European law</a:t>
            </a:r>
            <a:endParaRPr b="0" lang="en-US" sz="32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Rights’: civil and social rights protected under international &amp; European instruments: health, education, housing, family lif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imum standards, not ‘how’, &amp; not absolu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not discriminate - including on grounds nationality, immigration status within ‘any other stat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ess: pursues a legitimate aim and it is proportionate. Increasingly, ECtHR requires ‘weighty reas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s legal framework to examine differential treatment: a ‘culture of justification’ requ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30BF-2738-4A40-BF8F-6CF7F7567F91}"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mestic equality law</a:t>
            </a:r>
            <a:endParaRPr b="0" lang="en-US" sz="3200" spc="-1" strike="noStrike">
              <a:solidFill>
                <a:srgbClr val="000000"/>
              </a:solidFill>
              <a:latin typeface="Arial"/>
            </a:endParaRPr>
          </a:p>
        </p:txBody>
      </p:sp>
      <p:sp>
        <p:nvSpPr>
          <p:cNvPr id="151"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ity Act 2010 prohibits direct discrimination &amp; indirect unless ‘proportionate means to achieve legitimate a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as in prior legislation: broad exemptions discrimination grounds nationality, ethnic, national origins, and indirect discrimination on grounds of length of resid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functions under immigration &amp; asylum laws / regu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afeguard built in: no equality impact assessment, proportionality test, Independent Moni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t still subject obligations under international &amp; European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F6AD-9653-4A41-9F83-F15BFD51DBC1}"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Universal or Citizens’ rights?</a:t>
            </a:r>
            <a:endParaRPr b="0" lang="en-US" sz="32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ysal </a:t>
            </a:r>
            <a:r>
              <a:rPr b="0" lang="en-GB" sz="1800" spc="-1" strike="noStrike">
                <a:solidFill>
                  <a:srgbClr val="000000"/>
                </a:solidFill>
                <a:latin typeface="Arial"/>
              </a:rPr>
              <a:t>(1994:1) </a:t>
            </a:r>
            <a:r>
              <a:rPr b="0" lang="en-GB" sz="2400" spc="-1" strike="noStrike">
                <a:solidFill>
                  <a:srgbClr val="000000"/>
                </a:solidFill>
                <a:latin typeface="Arial"/>
              </a:rPr>
              <a:t>confidence ‘</a:t>
            </a:r>
            <a:r>
              <a:rPr b="0" i="1" lang="en-GB" sz="2400" spc="-1" strike="noStrike">
                <a:solidFill>
                  <a:srgbClr val="000000"/>
                </a:solidFill>
                <a:latin typeface="Arial"/>
              </a:rPr>
              <a:t>rights and privileges once reserved for citizens of a nation are codified and expanded as personal rights’</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limits on rights often fall below threshold that brings international norms into play: ‘</a:t>
            </a:r>
            <a:r>
              <a:rPr b="0" i="1" lang="en-GB" sz="2400" spc="-1" strike="noStrike">
                <a:solidFill>
                  <a:srgbClr val="000000"/>
                </a:solidFill>
                <a:latin typeface="Arial"/>
              </a:rPr>
              <a:t>thus a series of internal contradictions between universal human rights and territorial sovereignty are built into the logic of the most comprehensive international law documents in the world</a:t>
            </a:r>
            <a:r>
              <a:rPr b="0" lang="en-GB" sz="2400" spc="-1" strike="noStrike">
                <a:solidFill>
                  <a:srgbClr val="000000"/>
                </a:solidFill>
                <a:latin typeface="Arial"/>
              </a:rPr>
              <a:t>’. </a:t>
            </a:r>
            <a:r>
              <a:rPr b="0" lang="en-GB" sz="1800" spc="-1" strike="noStrike">
                <a:solidFill>
                  <a:srgbClr val="000000"/>
                </a:solidFill>
                <a:latin typeface="Arial"/>
              </a:rPr>
              <a:t>(Benhabib 2004:11)</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denial of rights undermines liberal values – including universal franchise. </a:t>
            </a:r>
            <a:r>
              <a:rPr b="0" lang="en-GB" sz="1800" spc="-1" strike="noStrike">
                <a:solidFill>
                  <a:srgbClr val="000000"/>
                </a:solidFill>
                <a:latin typeface="Arial"/>
              </a:rPr>
              <a:t>(Hammar 1990)</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ght to be a presumption in favour of equality. </a:t>
            </a:r>
            <a:r>
              <a:rPr b="0" lang="en-GB" sz="1800" spc="-1" strike="noStrike">
                <a:solidFill>
                  <a:srgbClr val="000000"/>
                </a:solidFill>
                <a:latin typeface="Arial"/>
              </a:rPr>
              <a:t>(Baubock 1994)</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CA18-6DC6-4F16-9650-9B8E169A6C5C}"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imits on rights a function </a:t>
            </a:r>
            <a:br>
              <a:rPr sz="3200"/>
            </a:br>
            <a:r>
              <a:rPr b="1" lang="en-GB" sz="3200" spc="-1" strike="noStrike">
                <a:solidFill>
                  <a:srgbClr val="333399"/>
                </a:solidFill>
                <a:latin typeface="Arial"/>
              </a:rPr>
              <a:t>of immigration control</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shifting contours of rights’ for migrants serve functions for state: defending public purse, labour market &amp; monitoring migrant behaviour </a:t>
            </a:r>
            <a:r>
              <a:rPr b="0" lang="en-GB" sz="1800" spc="-1" strike="noStrike">
                <a:solidFill>
                  <a:srgbClr val="000000"/>
                </a:solidFill>
                <a:latin typeface="Arial"/>
              </a:rPr>
              <a:t>(Morris 2002:10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t ‘the pervasive and equally powerful rights dynamic in liberal democracies’ (eg right to family reunion) major factor constraining states’ capacity limit future migration &amp; deport. </a:t>
            </a:r>
            <a:r>
              <a:rPr b="0" lang="en-GB" sz="1800" spc="-1" strike="noStrike">
                <a:solidFill>
                  <a:srgbClr val="000000"/>
                </a:solidFill>
                <a:latin typeface="Arial"/>
              </a:rPr>
              <a:t>(Hollifield 2004)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ghts also affect decisions &amp; opportunities to migrate, hence states trade rights </a:t>
            </a:r>
            <a:r>
              <a:rPr b="0" i="1" lang="en-GB" sz="2000" spc="-1" strike="noStrike">
                <a:solidFill>
                  <a:srgbClr val="000000"/>
                </a:solidFill>
                <a:latin typeface="Arial"/>
              </a:rPr>
              <a:t>v</a:t>
            </a:r>
            <a:r>
              <a:rPr b="0" lang="en-GB" sz="2000" spc="-1" strike="noStrike">
                <a:solidFill>
                  <a:srgbClr val="000000"/>
                </a:solidFill>
                <a:latin typeface="Arial"/>
              </a:rPr>
              <a:t> numbers allowed/encouraged to enter. Cannot separate analysis of rights from analysis states’ aims. </a:t>
            </a:r>
            <a:r>
              <a:rPr b="0" lang="en-GB" sz="1800" spc="-1" strike="noStrike">
                <a:solidFill>
                  <a:srgbClr val="000000"/>
                </a:solidFill>
                <a:latin typeface="Arial"/>
              </a:rPr>
              <a:t>(Ruhs 201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beral constraint’ has force because institutionalised, eg in Judiciary, welfare state; and can reflect state’s quest for legitimacy. But legitimacy </a:t>
            </a:r>
            <a:r>
              <a:rPr b="0" i="1" lang="en-GB" sz="2000" spc="-1" strike="noStrike">
                <a:solidFill>
                  <a:srgbClr val="000000"/>
                </a:solidFill>
                <a:latin typeface="Arial"/>
              </a:rPr>
              <a:t>also</a:t>
            </a:r>
            <a:r>
              <a:rPr b="0" lang="en-GB" sz="2000" spc="-1" strike="noStrike">
                <a:solidFill>
                  <a:srgbClr val="000000"/>
                </a:solidFill>
                <a:latin typeface="Arial"/>
              </a:rPr>
              <a:t> derived from privileging rights of own nationals.  </a:t>
            </a:r>
            <a:r>
              <a:rPr b="0" lang="en-GB" sz="1800" spc="-1" strike="noStrike">
                <a:solidFill>
                  <a:srgbClr val="000000"/>
                </a:solidFill>
                <a:latin typeface="Arial"/>
              </a:rPr>
              <a:t>(Boswell 2007)</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E: need to explore rationale for granting rights as well as deni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3T23:06:02Z</dcterms:created>
  <dc:creator>Liza S</dc:creator>
  <dc:description/>
  <dc:language>en-US</dc:language>
  <cp:lastModifiedBy>Jason Pobjoy</cp:lastModifiedBy>
  <dcterms:modified xsi:type="dcterms:W3CDTF">2010-11-26T11:00:11Z</dcterms:modified>
  <cp:revision>63</cp:revision>
  <dc:subject/>
  <dc:title>Slide 1</dc:title>
</cp:coreProperties>
</file>